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gif" ContentType="image/gif"/>
  <Override PartName="/ppt/media/image11.jpeg" ContentType="image/jpeg"/>
  <Override PartName="/ppt/media/image8.png" ContentType="image/png"/>
  <Override PartName="/ppt/media/image5.gif" ContentType="image/gif"/>
  <Override PartName="/ppt/media/image14.jpeg" ContentType="image/jpeg"/>
  <Override PartName="/ppt/media/image21.gif" ContentType="image/gif"/>
  <Override PartName="/ppt/media/image20.png" ContentType="image/png"/>
  <Override PartName="/ppt/media/image2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9.png" ContentType="image/png"/>
  <Override PartName="/ppt/media/image6.gif" ContentType="image/gif"/>
  <Override PartName="/ppt/media/image15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EB78-2DBE-4308-B259-231CBC8D1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1CE1-3943-4C31-99AB-A2EB628D9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scientopia.org/blogs/scicurious/2011/05/04/science-101-the-neuron/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DA9F-81EE-4DA4-9D53-F576E9546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Image from: </a:t>
            </a:r>
            <a:r>
              <a:rPr b="0" lang="en-CA" sz="400" spc="-1" strike="noStrike">
                <a:solidFill>
                  <a:srgbClr val="000000"/>
                </a:solidFill>
                <a:latin typeface="Arial"/>
              </a:rPr>
              <a:t>http://www.lionden.com/nerve_animations.htm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A448-A9E8-4253-AD5E-F987FEEDA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Image from: </a:t>
            </a:r>
            <a:r>
              <a:rPr b="0" lang="en-CA" sz="400" spc="-1" strike="noStrike">
                <a:solidFill>
                  <a:srgbClr val="000000"/>
                </a:solidFill>
                <a:latin typeface="Arial"/>
              </a:rPr>
              <a:t>http://elysium.wustl.edu/LingleLab/general.htm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94A1-ECB2-477B-B0E7-C8556A77B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biogeonerd.blogspot.ca/2012/02/action-potentials-what-make-your-brai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2AF2-9B6D-41E8-9511-BAEBFBFB1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euroscience for kids: https://faculty.washington.edu/chudler/ap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: https://faculty.washington.edu/chudler/ap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2344-6F12-4D65-B7E2-144826CBF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8272-197E-4835-B814-486280CE4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www.physiologyweb.com/lecture_notes/neuronal_action_potential/neuronal_action_potential_refractory_period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: no stimulus will trigger an action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: only a larger than normal stimulus will trigger an action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F663-022B-4507-8616-564160935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FC1A-D6BB-455E-9D8A-ED3A81DC1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E766-05AE-48BF-AB19-B0E9E6FE5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ntranik.org/conduction-of-the-action-potential-along-the-nerve-fiber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CF5A-A45A-4515-9D1B-CD00CC588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64CB-D959-47A2-B479-D55CC9CA6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tudy.com/academy/lesson/synaptic-cleft-definition-func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1C1F-55F5-4925-A90A-AC9A003F9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eskarati.com/2014/02/06/whats-the-difference-between-a-chemical-synapse-and-an-electrical-synaps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41DC-0D05-4F12-B5B8-A545A8A74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7224-EE50-4F18-8CD9-5EEED91CC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</a:t>
            </a: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http://cwx.prenhall.com/bookbind/pubbooks/morris5/chapter2/custom1/deluxe-content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0C01-38A2-47B5-82AD-AA252D4E4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F20F-F384-4DD3-9831-D0CA14946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962F-11E3-42B4-A25B-E4ACF57FD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; http://www.bio.miami.edu/tom/courses/bil360/bil360goods/08_synaptic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70AE-4E61-41E1-B920-E9F1FF1CC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faculty.southwest.tn.edu/rburkett/A&amp;P1%20M1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ompletehealthdallas.com/Anti-DepressantsNaturalAlternativeDalla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FD53-128E-4B97-8362-C37E5FCAB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3C88-F449-44BF-A543-653AC32E8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ouplescommittedtolove.com/report_5_science.php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ves makes us produce endorphins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0966-2DDD-4A2F-8E99-14C6B0A58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Image from:http://www.thenutritionpost.com/tag/brain-scan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encephalography – measuring brain activity…what is it actually measur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23E0-FDA2-43E1-9A81-73F58AD3B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faculty.washington.edu/chudler/synaps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04AB-D475-4305-B60E-7741C17B7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people.eku.edu/ritchisong/301notes2.htm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DBAA-1225-4026-AC69-57410B63D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</a:t>
            </a: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http://www.columbia.edu/cu/psychology/courses/1010/mangels/neuro/neurosignaling/neurosignaling.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 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/K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8061-7788-407F-B849-2267B75EB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42DA-3648-4C45-BF6C-19CC30999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5D87-4844-42A3-A6FB-FE3FC33DD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student.ccbcmd.edu/~gkaiser/biotutorials/eustruct/sppump.htm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stablishes the potential difference as well as the relative ion concentrations across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A0F7-55AE-4746-B6B7-3DC84E350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C9C0-4ACE-47F1-97DB-BFB61AD1E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5B08-3363-400D-A038-EE871CE7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C8A3-5E8C-4865-B390-FCBA6585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8D8F-52D5-4722-A744-94898162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307E-8A1E-49C2-B6E5-AF4034F7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3049-E126-4D25-B302-DCC89C55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4E77-6A50-45F3-9943-21D51CC6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99A8-2EF4-4E9A-A27B-C43B8C39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E317-DE70-499A-BCF7-578D3EFE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8093-4481-48D1-BE57-9486BE82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70D1-39E9-4129-AA4A-20B869B6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FFEC-8EBE-448D-90AD-DCAE62E1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C3B1-04BE-4388-9BB2-6494C6E57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rve Sig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olarization (+40 mV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imulus causes depolar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reshold potential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ched, Na+ channels o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+ ions enter, causing rapid depolar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voltgtan"/>
          <p:cNvPicPr/>
          <p:nvPr/>
        </p:nvPicPr>
        <p:blipFill>
          <a:blip r:embed="rId1"/>
          <a:stretch/>
        </p:blipFill>
        <p:spPr>
          <a:xfrm>
            <a:off x="4648320" y="2984400"/>
            <a:ext cx="380988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olarization (-70+ m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+ channels sh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+ channels 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+ moves out of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w closure of K+ channels causes hyperpola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genera1"/>
          <p:cNvPicPr/>
          <p:nvPr/>
        </p:nvPicPr>
        <p:blipFill>
          <a:blip r:embed="rId1"/>
          <a:stretch/>
        </p:blipFill>
        <p:spPr>
          <a:xfrm>
            <a:off x="4834080" y="2786040"/>
            <a:ext cx="34383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Action Potential"/>
          <p:cNvPicPr/>
          <p:nvPr/>
        </p:nvPicPr>
        <p:blipFill>
          <a:blip r:embed="rId1"/>
          <a:stretch/>
        </p:blipFill>
        <p:spPr>
          <a:xfrm>
            <a:off x="2487600" y="1981080"/>
            <a:ext cx="4168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le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try the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lso found this great website that seems to be created by the University of Washington, called “Neuroscience for Kids”.  This image is from the si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Content Placeholder 2" descr="ap3.gif"/>
          <p:cNvPicPr/>
          <p:nvPr/>
        </p:nvPicPr>
        <p:blipFill>
          <a:blip r:embed="rId1"/>
          <a:srcRect l="0" t="-47236" r="0" b="-47236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oscience for Kid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Content Placeholder 6" descr="actionp1.gif"/>
          <p:cNvPicPr/>
          <p:nvPr/>
        </p:nvPicPr>
        <p:blipFill>
          <a:blip r:embed="rId1"/>
          <a:srcRect l="0" t="-7893" r="0" b="-7893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ractory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peak of an action potential until the membrane reaches resting potential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milli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s action potential travels in one direction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Content Placeholder 3" descr="neuronal_action_potential_absolute_and_relative_refractory_periods_w.jpg"/>
          <p:cNvPicPr/>
          <p:nvPr/>
        </p:nvPicPr>
        <p:blipFill>
          <a:blip r:embed="rId1"/>
          <a:srcRect l="-8970" t="0" r="-8970" b="0"/>
          <a:stretch/>
        </p:blipFill>
        <p:spPr>
          <a:xfrm>
            <a:off x="611280" y="692280"/>
            <a:ext cx="784692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-Or-No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 of action potential doesn’t change;  intensity of stimulus is indicated by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reque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ction potent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-100 action potentials per 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e of conduction increases with diameter of ax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elinated Ax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conduction-in-a-myelinated-nerve-fiber-saltatory-conduction"/>
          <p:cNvPicPr/>
          <p:nvPr/>
        </p:nvPicPr>
        <p:blipFill>
          <a:blip r:embed="rId1"/>
          <a:stretch/>
        </p:blipFill>
        <p:spPr>
          <a:xfrm>
            <a:off x="685800" y="2401920"/>
            <a:ext cx="777240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at happens when the action potential reaches the axon termin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rve Impul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bout 100 billion neurons in the human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ns can transmit 10-100 nerve impulses per 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ap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Content Placeholder 3" descr="neuron_synapse44.png"/>
          <p:cNvPicPr/>
          <p:nvPr/>
        </p:nvPicPr>
        <p:blipFill>
          <a:blip r:embed="rId1"/>
          <a:srcRect l="-14326" t="0" r="-14326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Content Placeholder 5" descr="elec-chem-synapse.jpg"/>
          <p:cNvPicPr/>
          <p:nvPr/>
        </p:nvPicPr>
        <p:blipFill>
          <a:blip r:embed="rId1"/>
          <a:srcRect l="0" t="1531" r="0" b="1531"/>
          <a:stretch/>
        </p:blipFill>
        <p:spPr>
          <a:xfrm>
            <a:off x="611280" y="549360"/>
            <a:ext cx="79214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mical Synap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F02_04"/>
          <p:cNvPicPr/>
          <p:nvPr/>
        </p:nvPicPr>
        <p:blipFill>
          <a:blip r:embed="rId1"/>
          <a:stretch/>
        </p:blipFill>
        <p:spPr>
          <a:xfrm>
            <a:off x="1143000" y="1647720"/>
            <a:ext cx="73152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McGraw-Hill narrated animation (&amp; quiz to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highered.mcgraw-hill.com/sites/0072943696/student_view0/chapter8/animation__chemical_synapse__quiz_1_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aptic 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ons actively pumped out of neu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potential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ynapt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r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uses calcium channels to 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ons flow in and cause synaptic vesicles to fuse with plasma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aptic 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transmitters released into the synapti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use across cleft and bind to receptors on postsynaptic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22400" y="523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figure-06-11b"/>
          <p:cNvPicPr/>
          <p:nvPr/>
        </p:nvPicPr>
        <p:blipFill>
          <a:blip r:embed="rId1"/>
          <a:stretch/>
        </p:blipFill>
        <p:spPr>
          <a:xfrm>
            <a:off x="4648320" y="2546280"/>
            <a:ext cx="380988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otransmit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etylcholine (stimulatory) causes Na+ channels to open in postsynaptic neuron, continuing the action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Content Placeholder 2" descr="A&amp;P1 M12.jpg"/>
          <p:cNvPicPr/>
          <p:nvPr/>
        </p:nvPicPr>
        <p:blipFill>
          <a:blip r:embed="rId1"/>
          <a:srcRect l="0" t="-22080" r="0" b="-2208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otransmitter Inter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xin produc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ostridium tetan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uses muscles to contract (and not rela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Content Placeholder 4" descr="tetanus-21-728.jpg"/>
          <p:cNvPicPr/>
          <p:nvPr/>
        </p:nvPicPr>
        <p:blipFill>
          <a:blip r:embed="rId1"/>
          <a:srcRect l="0" t="-21992" r="0" b="-21992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otonin/Dopam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transmitter that makes us feel happ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drugs block the reuptake pumps that absorb it &amp; cause elevated levels of happ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Content Placeholder 4" descr="serotonin_in_synapse2-602x597.jpg"/>
          <p:cNvPicPr/>
          <p:nvPr/>
        </p:nvPicPr>
        <p:blipFill>
          <a:blip r:embed="rId1"/>
          <a:srcRect l="0" t="-4444" r="0" b="-4444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rph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us m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ph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transmitters that block pain receptors &amp; produce pleasurable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flowerhead_205px"/>
          <p:cNvPicPr/>
          <p:nvPr/>
        </p:nvPicPr>
        <p:blipFill>
          <a:blip r:embed="rId1"/>
          <a:stretch/>
        </p:blipFill>
        <p:spPr>
          <a:xfrm>
            <a:off x="4946760" y="1981080"/>
            <a:ext cx="3211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baby-brain-scan"/>
          <p:cNvPicPr/>
          <p:nvPr/>
        </p:nvPicPr>
        <p:blipFill>
          <a:blip r:embed="rId1"/>
          <a:stretch/>
        </p:blipFill>
        <p:spPr>
          <a:xfrm>
            <a:off x="1066680" y="609480"/>
            <a:ext cx="6969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le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try the quiz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nation from Neuroscience for K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Content Placeholder 2" descr="synani1.gif"/>
          <p:cNvPicPr/>
          <p:nvPr/>
        </p:nvPicPr>
        <p:blipFill>
          <a:blip r:embed="rId1"/>
          <a:srcRect l="-21549" t="0" r="-21549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by relative concentrations of positive ions (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on either side of the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Neuron_action_potential"/>
          <p:cNvPicPr/>
          <p:nvPr/>
        </p:nvPicPr>
        <p:blipFill>
          <a:blip r:embed="rId1"/>
          <a:stretch/>
        </p:blipFill>
        <p:spPr>
          <a:xfrm>
            <a:off x="4648320" y="2562120"/>
            <a:ext cx="38098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on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ChannelsPump"/>
          <p:cNvPicPr/>
          <p:nvPr/>
        </p:nvPicPr>
        <p:blipFill>
          <a:blip r:embed="rId1"/>
          <a:stretch/>
        </p:blipFill>
        <p:spPr>
          <a:xfrm>
            <a:off x="609480" y="1711440"/>
            <a:ext cx="8001000" cy="46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 (&amp; Qui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cGraw-Hill narrated animation &amp; quiz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highered.mcgraw-hill.com/sites/0072495855/student_view0/chapter14/animation__the_nerve_impuls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ing Potential (-70 m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ide of cell is more negative (-70 mV) than out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rane is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arized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tive transport pump establishes resting potential, pumping out 3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every 2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ppump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ola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repola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restoration of resting 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0:01:39Z</dcterms:created>
  <dc:creator>rubina khan</dc:creator>
  <dc:description/>
  <dc:language>en-US</dc:language>
  <cp:lastModifiedBy>rubina khan</cp:lastModifiedBy>
  <dcterms:modified xsi:type="dcterms:W3CDTF">2017-05-12T03:31:33Z</dcterms:modified>
  <cp:revision>242</cp:revision>
  <dc:subject/>
  <dc:title>The Importance of the Nervous System</dc:title>
</cp:coreProperties>
</file>